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175-BD3C-411F-BFAF-967AFFF7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0A3-AEE1-4196-9198-67FD713D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AE56-A007-44C5-8305-0EA20AC0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525-B4FA-415D-8F72-A0C2813E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FFF-B451-4883-B063-A8DA4221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1C7-65E2-4220-B0B8-ED347523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95B-3C5F-4AD3-AE44-2EB97B2C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F87-9DD6-4586-A5DF-66F81492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80B-A5BD-47DD-B4E6-704CA56C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F6CC-4EC0-4E48-9921-1F89D68A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CE6-A8B3-461F-9C34-090C439C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101-7B9E-45F1-A914-2538D324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4ED6-F817-4B25-A760-4D83F0ECC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"/>
              </a:rPr>
              <a:t>Planet Presen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rush Script MT"/>
              </a:rPr>
              <a:t>Group Members:Jack,Alec,Abbi, La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anet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 object with a great amount of mass exceeding 0.055 (Earth=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st orbit a star with a gravitational p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st have at least one moon orbiting aroun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st not be farther than 5000 million km. away from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rotational period must not take more than two Earth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orbital period must be less than 40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r Diameter and Mass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2:22:51Z</dcterms:created>
  <dc:creator>mchamorro</dc:creator>
  <dc:description/>
  <dc:language>en-US</dc:language>
  <cp:lastModifiedBy>ASD</cp:lastModifiedBy>
  <dcterms:modified xsi:type="dcterms:W3CDTF">2011-02-16T21:58:01Z</dcterms:modified>
  <cp:revision>4</cp:revision>
  <dc:subject/>
  <dc:title>Planet Presentation</dc:title>
</cp:coreProperties>
</file>